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AE58-1D29-4DDC-8F98-70E1CF1D6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AACD-9B88-40BB-87EE-8C2E4B816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D5F4-5699-4193-89C5-A86AF6C0C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5FD8-74C9-43F0-8F1D-82B98C34B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F3E4-0094-461E-90A5-34002C0D9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9154-06DB-432A-844D-8B3F63E38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9421-24AD-438E-974A-ED7BD5B06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09A3-6C6F-460F-BAA2-724EDA91F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ABAB-5E12-4E0E-AB12-799790880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3D4F-ED70-4A63-AC09-55B2C207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732B-3865-46F6-A615-548B209F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7B61-F1E1-4963-9175-93B7E5A2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909D5-E7B2-41BE-8E05-23A658BA3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VIAŢA SPIRITUALĂ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Manualul de Istori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clasa a V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, Zoe Petre, Laura Căpiţă, Monica Dvorski, Carol Căpiţă, Ioan Grosu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114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iaţa spirituală a oamenilor din preistorie este la fel de bogată ca şi a noastră. Dar, în vreme ce noi ştim mai multe despre lumea ce ne înconjoară, primitivii nu au la dispoziţie instrumentele de astăz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esiguranţa în obţinerea hranei şi faptul că nu găsesc răspunsurile la întrebări cum ar fi cauza anotimpurilor sau originea animalelor, i-au făcut să acorde puteri deosebite unor plante şi animale sau unor fiinţe supra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mitivii cred că dacă nu acordă respectul cuvenit acestor fiinţe (prin dansuri şi ceremonii), ele se pot răzbuna refuzând să-i ajute la vânătoare şi cu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 loc aparte îl ocupă cultul morţilor. Obiceiul îngropării celor morţi cu daruri (ofrande) alături apare la sfârşitul paleoliticului, dar el se răspândeşte cu deosebire în timpul epocilor următo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neolitic, atunci când agricultura şi creşterea animalelor au devenit ocupaţiile de bază, în religia primitivă apar divinităţi care pot asigura recolte bogate şi turme numero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comp_i"/>
          <p:cNvPicPr/>
          <p:nvPr/>
        </p:nvPicPr>
        <p:blipFill>
          <a:blip r:embed="rId1"/>
          <a:stretch/>
        </p:blipFill>
        <p:spPr>
          <a:xfrm>
            <a:off x="5105520" y="1828800"/>
            <a:ext cx="359388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e izvoare istorice sunt utilizate pentru cercetarea preistoriei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arheolog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sc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numisma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edaţi pe scurt înţelesul termenil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reisto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homin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igra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ce epoci ale preistoriei au fost realiza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omesticirea animale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etalur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lărit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lev</cp:lastModifiedBy>
  <dcterms:modified xsi:type="dcterms:W3CDTF">2012-06-18T11:17:36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